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ush.wav" ContentType="audio/x-wav"/>
  <Override PartName="/ppt/media/image2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5.jpeg" ContentType="image/jpeg"/>
  <Override PartName="/ppt/media/image14.jpeg" ContentType="image/jpeg"/>
  <Override PartName="/ppt/media/laser.wav" ContentType="audio/x-wav"/>
  <Override PartName="/ppt/media/image4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explode.wav" ContentType="audio/x-wav"/>
  <Override PartName="/ppt/media/image1.jpeg" ContentType="image/jpeg"/>
  <Override PartName="/ppt/media/drumroll.wav" ContentType="audio/x-wav"/>
  <Override PartName="/ppt/media/image3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066D-FBFA-4BCB-8D28-1B2483F61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BBCF-2CDE-4B71-9018-AC6CACD6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1B4E-F62D-44A8-B62F-F24384BA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EE2F-4BA7-4D30-B9C8-5199AF22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28F9-FB36-45C2-BDDA-BBA82D82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E8A0-FEBB-4245-9342-E7F99567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78D6-3B24-4CD1-A25E-FF9DE7A4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2A4F-D162-460D-B8C5-494F73BC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E498-2F4E-4252-9A2A-AD886902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E945-5244-4068-8AE1-C877144E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E24B-11F0-41EC-855E-B84F6265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F559-0A91-4FE0-B68E-B2827AF9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BFFE-0746-44ED-90FA-4CBB596E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8588-F7FD-4CC0-AF38-4B2796BB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E309-9B43-468C-9EA5-222BD517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35C9-4091-41FD-8110-CCEFAAD9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36E8-7301-4C62-88A6-E2620BB4A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9DD5-C73E-46E5-9D27-0C52848F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9F94-8704-499A-B021-5968E71D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ED24-C27C-4EFC-953A-888570B1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4DFD-E990-4652-9E7B-3578C7D4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A4ED-CE29-4DCC-9505-7FACD334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108A-3CEA-40DA-933F-BE5A2F63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4609-09D6-4997-BF7B-DD78942D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CE06-EE4F-4E60-ABE0-8FA462C806D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7616-DC72-4095-B980-FAA91BA16B5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baptistcollege.edu/news_events/press/2006/russia_homeless_0306.jpg&amp;imgrefurl=http://www.baptistcollege.edu/news_events/press/2006/russia_homeless.htm&amp;usg=__n-JQfrmj-evry7nToidx313KVqU=&amp;h=480&amp;w=640&amp;sz=191&amp;hl=en&amp;start=2&amp;zoom=1&amp;itbs=1&amp;tbnid=fYq-kJqBQrYaLM:&amp;tbnh=103&amp;tbnw=137&amp;prev=/images%3Fq%3Drussia%2Bhomeless%2Bpeople%26hl%3Den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/imgres?imgurl=http://1.bp.blogspot.com/_CAoFDpupTaY/THEUk7uGXgI/AAAAAAAACTE/hGVd-AhgGrM/s1600/medvedev%255B1%255D.jpg&amp;imgrefurl=http://legendofpineridge.blogspot.com/2010/08/president-medvedev-says-russians-have.html&amp;usg=__DHaWGLZ6k365YwBM7fp8_TWcZXY=&amp;h=800&amp;w=533&amp;sz=62&amp;hl=en&amp;start=11&amp;zoom=1&amp;itbs=1&amp;tbnid=d8m4Ss7mGpUa8M:&amp;tbnh=143&amp;tbnw=95&amp;prev=/images%3Fq%3Drussian%2Bpresident%2B2010%26hl%3Den%26gbv%3D2%26tbs%3Disch:1" TargetMode="External"/><Relationship Id="rId4" Type="http://schemas.openxmlformats.org/officeDocument/2006/relationships/image" Target="../media/image2.jpe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rkbrouwer.com/wp-content/uploads/2008/01/holding-hope.jpg&amp;imgrefurl=http://markbrouwer.com/%3Fp%3D118&amp;usg=__X8R57vJvarkN9ApZ9h7LAj8oWNM=&amp;h=357&amp;w=336&amp;sz=107&amp;hl=en&amp;start=1&amp;zoom=1&amp;itbs=1&amp;tbnid=lSkOd2uHYpCTSM:&amp;tbnh=121&amp;tbnw=114&amp;prev=/images%3Fq%3Dpeople%2Bstruggling%26hl%3Den%26gbv%3D2%26tbs%3Disch:1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google.com/imgres?imgurl=http://www.marketoracle.co.uk/images/russian-poverty.jpg&amp;imgrefurl=http://www.marketoracle.co.uk/Article22127.html&amp;usg=__xvlswQQXhmMGL7i7uHsojTwguvw=&amp;h=180&amp;w=150&amp;sz=16&amp;hl=en&amp;start=2&amp;zoom=1&amp;itbs=1&amp;tbnid=I8i9bO5Y-oiLdM:&amp;tbnh=101&amp;tbnw=84&amp;prev=/images%3Fq%3Drussian%2Bpoverty%26hl%3Den%26gbv%3D2%26tbs%3Disch:1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audio" Target="../media/push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Brush Script MT"/>
              </a:rPr>
              <a:t>Present Day Russi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By: Jason Ku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Ryan L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Peter Gag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581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57200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animClr clrSpc="rgb">
                                      <p:cBhvr>
                                        <p:cTn id="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2" descr="Vladmir.jpg"/>
          <p:cNvPicPr/>
          <p:nvPr/>
        </p:nvPicPr>
        <p:blipFill>
          <a:blip r:embed="rId1"/>
          <a:stretch/>
        </p:blipFill>
        <p:spPr>
          <a:xfrm>
            <a:off x="457200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1" descr="Boris.jpg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medvedev-1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http://t3.gstatic.com/images?q=tbn:ANd9GcQr1LrsoHQJr2uxSzMsdhx395TqtyZyG01UdLX_-3E5rMYvy2uQqA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8" descr="http://t1.gstatic.com/images?q=tbn:ANd9GcRF70OPQIR3zOL9oapKiZ9YjfRqff5-mYMutL1Pnzm35yDv8Iy7oA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99ff"/>
                </a:solidFill>
                <a:latin typeface="Bodoni MT Condensed"/>
              </a:rPr>
              <a:t>Government Method Backfi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Presidents serve a term for six years and may be elected for back-to-back ter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hange of government from communist to democracy cause many proble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Job losses caused by wrong choices in career because after they changed to democracy, they became a free market econom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Russians decided to reduce price so people can afford it. However, they were short on supply so they needed to rise the price and many people couldn’t afford it anymo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opied the U.S. democracy government but the Russian president has more power like signing laws with only his/her own approval but some use it to make decisions but they aren’t always good decis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AutoShape 2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AutoShape 14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AutoShape 16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AutoShape 18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AutoShape 20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AutoShape 22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AutoShape 26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30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AutoShape 32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AutoShape 34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AutoShape 36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AutoShape 38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AutoShape 40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AutoShape 42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AutoShape 44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AutoShape 46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AutoShape 48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2895480"/>
            <a:ext cx="9185400" cy="975348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"/>
              </a:rPr>
              <a:t>Challen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Agriculture is horrible because it is so cold the ground doesn’t thaw out until May or June making it hard to plant crop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Pover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Life expectancy decrea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914400"/>
            <a:ext cx="3124080" cy="2438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"/>
          <p:cNvPicPr/>
          <p:nvPr/>
        </p:nvPicPr>
        <p:blipFill>
          <a:blip r:embed="rId5"/>
          <a:stretch/>
        </p:blipFill>
        <p:spPr>
          <a:xfrm>
            <a:off x="5486400" y="914400"/>
            <a:ext cx="266688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05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07" dur="2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09" dur="2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77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770" fill="hold"/>
                                        <p:tgtEl>
                                          <p:spTgt spid="1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6c1"/>
                </a:solidFill>
                <a:latin typeface="augie"/>
              </a:rPr>
              <a:t>Bad Deci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Built nuclear power plants that leave dangerous by-produc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Changed to democracy which was a hard transition because many things were n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Nuclear power plants by-products cause explosion in Chernobyl and pollu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Picture 5" descr="http://t3.gstatic.com/images?q=tbn:ANd9GcQrAerm14nb-BZU2l2kSMlqHK7SlIktJV1Zck1y2FOacLooI4kGkjuAW6NcBQ"/>
          <p:cNvPicPr/>
          <p:nvPr/>
        </p:nvPicPr>
        <p:blipFill>
          <a:blip r:embed="rId1"/>
          <a:stretch/>
        </p:blipFill>
        <p:spPr>
          <a:xfrm>
            <a:off x="609480" y="1143000"/>
            <a:ext cx="1676520" cy="1814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http://t3.gstatic.com/images?q=tbn:ANd9GcSELAMPGTLf-YyiFNWskzcN3QHp8wgvE02cal00Dza5ecMVCeFv"/>
          <p:cNvPicPr/>
          <p:nvPr/>
        </p:nvPicPr>
        <p:blipFill>
          <a:blip r:embed="rId2"/>
          <a:stretch/>
        </p:blipFill>
        <p:spPr>
          <a:xfrm>
            <a:off x="2743200" y="1066680"/>
            <a:ext cx="2467080" cy="185760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9"/>
          <p:cNvSpPr/>
          <p:nvPr/>
        </p:nvSpPr>
        <p:spPr>
          <a:xfrm>
            <a:off x="15552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AutoShape 11"/>
          <p:cNvSpPr/>
          <p:nvPr/>
        </p:nvSpPr>
        <p:spPr>
          <a:xfrm>
            <a:off x="15552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AutoShape 13"/>
          <p:cNvSpPr/>
          <p:nvPr/>
        </p:nvSpPr>
        <p:spPr>
          <a:xfrm>
            <a:off x="15552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Picture 15" descr="http://t1.gstatic.com/images?q=tbn:ANd9GcTyxYa-f3CEnibGYexTF4Sof0M4tVNsF6QM2oA-M-ipi-v6IVg3Wg"/>
          <p:cNvPicPr/>
          <p:nvPr/>
        </p:nvPicPr>
        <p:blipFill>
          <a:blip r:embed="rId3"/>
          <a:stretch/>
        </p:blipFill>
        <p:spPr>
          <a:xfrm>
            <a:off x="5867280" y="10666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275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277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677 0.09468 -0.00156 0.01459 -0.00156 0.24121 E">
                                      <p:cBhvr>
                                        <p:cTn id="283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677 0.09468 -0.00156 0.01459 -0.00156 0.24121 E">
                                      <p:cBhvr>
                                        <p:cTn id="285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677 0.09468 -0.00156 0.01459 -0.00156 0.24121 E">
                                      <p:cBhvr>
                                        <p:cTn id="287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Gill Sans Ultra Bold"/>
              </a:rPr>
              <a:t>Disast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il spill – 25,000,000 gallons of oil spilled and they didn’t have proper clean up materials so they burned it, causing pollution. Later, it was fixed in Serb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AutoShape 2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AutoShape 8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10" descr="http://t2.gstatic.com/images?q=tbn:ANd9GcTmHhecxNYF-oN6Z9oOtV9KWl9UIoyzlLo8tQ-fGOMOu-lCJjFtAQ"/>
          <p:cNvPicPr/>
          <p:nvPr/>
        </p:nvPicPr>
        <p:blipFill>
          <a:blip r:embed="rId1"/>
          <a:stretch/>
        </p:blipFill>
        <p:spPr>
          <a:xfrm>
            <a:off x="2438280" y="0"/>
            <a:ext cx="4191120" cy="319572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12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14" descr="http://t1.gstatic.com/images?q=tbn:ANd9GcRAlRH6_JF5cTml1-166vc2ZAjV8Hsb2hFqKPBNGHMULcckOH7xbQ"/>
          <p:cNvPicPr/>
          <p:nvPr/>
        </p:nvPicPr>
        <p:blipFill>
          <a:blip r:embed="rId2"/>
          <a:stretch/>
        </p:blipFill>
        <p:spPr>
          <a:xfrm>
            <a:off x="2438280" y="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10:13Z</dcterms:created>
  <dc:creator>KUNG</dc:creator>
  <dc:description/>
  <dc:language>en-US</dc:language>
  <cp:lastModifiedBy>KUNG</cp:lastModifiedBy>
  <dcterms:modified xsi:type="dcterms:W3CDTF">2010-12-16T00:35:28Z</dcterms:modified>
  <cp:revision>15</cp:revision>
  <dc:subject/>
  <dc:title>Present Day Russia</dc:title>
</cp:coreProperties>
</file>